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12021"/>
        <c:axId val="66682579"/>
      </c:barChart>
      <c:catAx>
        <c:axId val="64212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82579"/>
        <c:crosses val="autoZero"/>
        <c:auto val="1"/>
        <c:lblAlgn val="ctr"/>
        <c:lblOffset val="100"/>
        <c:noMultiLvlLbl val="0"/>
      </c:catAx>
      <c:valAx>
        <c:axId val="66682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12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3EE-9CA2-49DE-B8FF-D99EC3C5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7AC-F84A-42AE-ADB9-AF022221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080-64D4-498C-92B8-D30467D1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472-54A6-4D62-946A-E04937BE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9DF-D6FA-41A4-B065-5D796C21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89D-DA5B-469B-9E5A-D7C1C2D6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E60-5843-4B63-B118-BADA5E29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9D20-C8EA-4180-8598-BC99636E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630-2757-4071-93BD-95663E09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665-FD29-454D-849B-B6DE9B9A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D25-C301-4703-849A-4F6E1A1B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F96-29C5-4683-BF39-E5A75F2D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963C3-63F1-4BA0-8ECB-94B7E83328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